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9.jpeg" ContentType="image/jpeg"/>
  <Override PartName="/ppt/media/image1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5.gif" ContentType="image/gif"/>
  <Override PartName="/ppt/media/image1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B264-008D-4E3D-8505-9211020D9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5504-5383-4494-A4B3-0727BCA0E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561B-CF08-4604-9B5D-74D3160AE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FAF8-5F68-4095-8CBE-C2EAFBB3C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C85F9-FBC6-4F46-A25A-F32A6F336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E63BA-3080-4012-B20A-83612CAA9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F312C-26C6-4560-BA78-86FA4644E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12049-F3C9-4A51-8B39-08ADAA91B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E964B-D751-4A06-AAD1-84A82A594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09FF6-32B7-411D-BB57-2FA749570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86C3B-9AE8-4D38-83AE-D94B7A659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813A-C435-41B6-B572-AAFCC4685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1FD1F-4B69-426A-A594-D813223D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51843-FD9B-4AA3-A884-EC8C7F066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C3539-33F8-42A1-9647-0F50914F3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34B66-2DBB-4656-8E27-D392AA7DF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87DC3-92A2-45F2-B434-9D3BD50CA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FF60-FC40-4018-9399-963B44956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7D0D-E474-4E9F-A6EA-81744FBF1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89EF-CDBD-4032-B5AF-C4128BE43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6950-D774-406A-A982-2147DB1DF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8724-25C2-4335-A69D-8A80E552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9A3C-3790-44FE-BC49-D9F8C160A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2E73-270E-46D0-9A93-2CC185A9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9F3B2-0CD5-43B8-9A89-FB617E84BD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40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481C9-20F4-4729-9A4C-1F2A830E60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38280" y="2361960"/>
            <a:ext cx="38102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Sound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Sound and Instruments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75438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Instruments can be played at different pitches by changing lengths of different parts.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or example:</a:t>
            </a:r>
            <a:r>
              <a:rPr b="0" lang="en-US" sz="3200" spc="-1" strike="noStrike">
                <a:solidFill>
                  <a:srgbClr val="0000ff"/>
                </a:solidFill>
                <a:latin typeface="Palatino Linotype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Another way to make different pitches is to 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hange the thickness of the material that vibrates.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or example: 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17" name="Picture 6" descr="A2506_trombone_2col_1749"/>
          <p:cNvPicPr/>
          <p:nvPr/>
        </p:nvPicPr>
        <p:blipFill>
          <a:blip r:embed="rId1"/>
          <a:stretch/>
        </p:blipFill>
        <p:spPr>
          <a:xfrm>
            <a:off x="4495680" y="4038480"/>
            <a:ext cx="4267440" cy="17352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7"/>
          <p:cNvSpPr/>
          <p:nvPr/>
        </p:nvSpPr>
        <p:spPr>
          <a:xfrm>
            <a:off x="685800" y="4203720"/>
            <a:ext cx="3733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 trombone</a:t>
            </a:r>
            <a:r>
              <a:rPr b="0" lang="ja-JP" sz="2800" spc="-1" strike="noStrike">
                <a:solidFill>
                  <a:srgbClr val="000000"/>
                </a:solidFill>
                <a:latin typeface="Palatino Linotype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 mute absorbs some of the sound waves produced, thus producing a softer note when played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9" name="AutoShape 8"/>
          <p:cNvSpPr/>
          <p:nvPr/>
        </p:nvSpPr>
        <p:spPr>
          <a:xfrm>
            <a:off x="4191120" y="541008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20" name="Picture 9" descr=""/>
          <p:cNvPicPr/>
          <p:nvPr/>
        </p:nvPicPr>
        <p:blipFill>
          <a:blip r:embed="rId2"/>
          <a:stretch/>
        </p:blipFill>
        <p:spPr>
          <a:xfrm>
            <a:off x="7620120" y="2438280"/>
            <a:ext cx="1523880" cy="1524240"/>
          </a:xfrm>
          <a:prstGeom prst="rect">
            <a:avLst/>
          </a:prstGeom>
          <a:ln w="0">
            <a:noFill/>
          </a:ln>
        </p:spPr>
      </p:pic>
      <p:pic>
        <p:nvPicPr>
          <p:cNvPr id="121" name="4E2C2F7B.WAV" descr=""/>
          <p:cNvPicPr/>
          <p:nvPr/>
        </p:nvPicPr>
        <p:blipFill>
          <a:blip r:embed="rId3"/>
          <a:stretch/>
        </p:blipFill>
        <p:spPr>
          <a:xfrm>
            <a:off x="152280" y="6172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Sonar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An instrument that uses reflected sound waves to find underwater objects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24" name="Picture 5" descr="sonar"/>
          <p:cNvPicPr/>
          <p:nvPr/>
        </p:nvPicPr>
        <p:blipFill>
          <a:blip r:embed="rId1"/>
          <a:stretch/>
        </p:blipFill>
        <p:spPr>
          <a:xfrm>
            <a:off x="380880" y="3352680"/>
            <a:ext cx="2590920" cy="20574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sonar"/>
          <p:cNvPicPr/>
          <p:nvPr/>
        </p:nvPicPr>
        <p:blipFill>
          <a:blip r:embed="rId2"/>
          <a:stretch/>
        </p:blipFill>
        <p:spPr>
          <a:xfrm>
            <a:off x="3352680" y="3352680"/>
            <a:ext cx="2438640" cy="2057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sonar"/>
          <p:cNvPicPr/>
          <p:nvPr/>
        </p:nvPicPr>
        <p:blipFill>
          <a:blip r:embed="rId3"/>
          <a:stretch/>
        </p:blipFill>
        <p:spPr>
          <a:xfrm>
            <a:off x="6276960" y="4343400"/>
            <a:ext cx="2657520" cy="2286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0"/>
          <p:cNvSpPr/>
          <p:nvPr/>
        </p:nvSpPr>
        <p:spPr>
          <a:xfrm>
            <a:off x="533520" y="5288040"/>
            <a:ext cx="5486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Animals use sonar or echolocation to find their prey; these sounds have such a high pitch or frequency that the human ear cannot hear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6553080" y="2971800"/>
            <a:ext cx="228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Humans use sonar to locate or map objects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The Facts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ound …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1.  Is a form of energy produced &amp; transmitted   by </a:t>
            </a:r>
            <a:r>
              <a:rPr b="0" lang="en-US" sz="3200" spc="-1" strike="noStrike">
                <a:solidFill>
                  <a:srgbClr val="ff0000"/>
                </a:solidFill>
                <a:latin typeface="Palatino Linotype"/>
              </a:rPr>
              <a:t>vibrating matter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2.  </a:t>
            </a:r>
            <a:r>
              <a:rPr b="0" lang="en-US" sz="3200" spc="-1" strike="noStrike">
                <a:solidFill>
                  <a:srgbClr val="ff0000"/>
                </a:solidFill>
                <a:latin typeface="Palatino Linotype"/>
              </a:rPr>
              <a:t>Travels in waves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3.  </a:t>
            </a:r>
            <a:r>
              <a:rPr b="0" lang="en-US" sz="3200" spc="-1" strike="noStrike">
                <a:solidFill>
                  <a:srgbClr val="0d0d0d"/>
                </a:solidFill>
                <a:latin typeface="Palatino Linotype"/>
              </a:rPr>
              <a:t>Travels 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more </a:t>
            </a:r>
            <a:r>
              <a:rPr b="0" lang="en-US" sz="3200" spc="-1" strike="noStrike">
                <a:solidFill>
                  <a:srgbClr val="ff0000"/>
                </a:solidFill>
                <a:latin typeface="Palatino Linotype"/>
              </a:rPr>
              <a:t>quickly through solids 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han liquids or gases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The Ear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Palatino Linotype"/>
              </a:rPr>
              <a:t>Sound is carried 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o our ears </a:t>
            </a:r>
            <a:r>
              <a:rPr b="0" lang="en-US" sz="2800" spc="-1" strike="noStrike">
                <a:solidFill>
                  <a:srgbClr val="ff0000"/>
                </a:solidFill>
                <a:latin typeface="Palatino Linotype"/>
              </a:rPr>
              <a:t>through vibrating air molecules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Our ears take in sound waves &amp; turn them into signals that go to our brains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ound waves move through 3 parts of the ear; outer ear, middle ear, &amp; inner ear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grpSp>
        <p:nvGrpSpPr>
          <p:cNvPr id="88" name="Group 5"/>
          <p:cNvGrpSpPr/>
          <p:nvPr/>
        </p:nvGrpSpPr>
        <p:grpSpPr>
          <a:xfrm>
            <a:off x="2362320" y="4545000"/>
            <a:ext cx="4038480" cy="2313000"/>
            <a:chOff x="2362320" y="4545000"/>
            <a:chExt cx="4038480" cy="2313000"/>
          </a:xfrm>
        </p:grpSpPr>
        <p:pic>
          <p:nvPicPr>
            <p:cNvPr id="89" name="Picture 10" descr="eardi"/>
            <p:cNvPicPr/>
            <p:nvPr/>
          </p:nvPicPr>
          <p:blipFill>
            <a:blip r:embed="rId1"/>
            <a:stretch/>
          </p:blipFill>
          <p:spPr>
            <a:xfrm>
              <a:off x="2362320" y="4545000"/>
              <a:ext cx="4038480" cy="2313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90" name="AutoShape 7"/>
            <p:cNvSpPr/>
            <p:nvPr/>
          </p:nvSpPr>
          <p:spPr>
            <a:xfrm>
              <a:off x="3886200" y="6019920"/>
              <a:ext cx="1447560" cy="533160"/>
            </a:xfrm>
            <a:prstGeom prst="upArrowCallout">
              <a:avLst>
                <a:gd name="adj1" fmla="val 67883"/>
                <a:gd name="adj2" fmla="val 67876"/>
                <a:gd name="adj3" fmla="val 16667"/>
                <a:gd name="adj4" fmla="val 66660"/>
              </a:avLst>
            </a:prstGeom>
            <a:solidFill>
              <a:srgbClr val="ff9900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Palatino Linotype"/>
                </a:rPr>
                <a:t>Middle Ear</a:t>
              </a:r>
              <a:endParaRPr b="0" lang="en-US" sz="18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3" descr="300px-Anatomy_of_the_Human_Ear"/>
          <p:cNvPicPr/>
          <p:nvPr/>
        </p:nvPicPr>
        <p:blipFill>
          <a:blip r:embed="rId1"/>
          <a:stretch/>
        </p:blipFill>
        <p:spPr>
          <a:xfrm>
            <a:off x="838080" y="515880"/>
            <a:ext cx="762012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Vibration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Palatino Linotype"/>
              </a:rPr>
              <a:t>Back and forth movement of molecules 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of matter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Palatino Linotype"/>
              </a:rPr>
              <a:t>For example: 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94" name="Picture 5" descr="musicnoise"/>
          <p:cNvPicPr/>
          <p:nvPr/>
        </p:nvPicPr>
        <p:blipFill>
          <a:blip r:embed="rId1"/>
          <a:stretch/>
        </p:blipFill>
        <p:spPr>
          <a:xfrm>
            <a:off x="533520" y="3657600"/>
            <a:ext cx="3429000" cy="2419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diver"/>
          <p:cNvPicPr/>
          <p:nvPr/>
        </p:nvPicPr>
        <p:blipFill>
          <a:blip r:embed="rId2"/>
          <a:stretch/>
        </p:blipFill>
        <p:spPr>
          <a:xfrm>
            <a:off x="4876920" y="3505320"/>
            <a:ext cx="320040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Sound Waves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Palatino Linotype"/>
              </a:rPr>
              <a:t>Alternating areas of high &amp; low pressure 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in the air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Palatino Linotype"/>
              </a:rPr>
              <a:t>ALL 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ound is carried through matter as sound waves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ound waves </a:t>
            </a:r>
            <a:r>
              <a:rPr b="0" lang="en-US" sz="3200" spc="-1" strike="noStrike">
                <a:solidFill>
                  <a:srgbClr val="ff0000"/>
                </a:solidFill>
                <a:latin typeface="Palatino Linotype"/>
              </a:rPr>
              <a:t>move out in ALL directions 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rom a vibrating object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98" name="Picture 5" descr="sf000-sound"/>
          <p:cNvPicPr/>
          <p:nvPr/>
        </p:nvPicPr>
        <p:blipFill>
          <a:blip r:embed="rId1"/>
          <a:stretch/>
        </p:blipFill>
        <p:spPr>
          <a:xfrm>
            <a:off x="6858000" y="22860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istockphoto_576587_orange_blue_sound_waves"/>
          <p:cNvPicPr/>
          <p:nvPr/>
        </p:nvPicPr>
        <p:blipFill>
          <a:blip r:embed="rId2">
            <a:alphaModFix amt="85000"/>
          </a:blip>
          <a:stretch/>
        </p:blipFill>
        <p:spPr>
          <a:xfrm>
            <a:off x="2514600" y="4876920"/>
            <a:ext cx="4114800" cy="17334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Wavelength &amp; Frequency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Palatino Linotype"/>
              </a:rPr>
              <a:t>Wavelength 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is the distance between one part of a wave and the same part of the next wave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02" name="Picture 9" descr="image001"/>
          <p:cNvPicPr/>
          <p:nvPr/>
        </p:nvPicPr>
        <p:blipFill>
          <a:blip r:embed="rId1"/>
          <a:stretch/>
        </p:blipFill>
        <p:spPr>
          <a:xfrm>
            <a:off x="3200400" y="2895480"/>
            <a:ext cx="3276720" cy="1447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freq-wavelength"/>
          <p:cNvPicPr/>
          <p:nvPr/>
        </p:nvPicPr>
        <p:blipFill>
          <a:blip r:embed="rId2"/>
          <a:stretch/>
        </p:blipFill>
        <p:spPr>
          <a:xfrm>
            <a:off x="5257800" y="4641840"/>
            <a:ext cx="3505320" cy="20448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685800" y="4495680"/>
            <a:ext cx="457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Palatino Linotype"/>
              </a:rPr>
              <a:t>Frequency 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is the 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number of waves moving past a point in one second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Compression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Palatino Linotype"/>
              </a:rPr>
              <a:t>Where molecules are being pressed together 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as the sound waves move through matter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07" name="Picture 5" descr="1Fig2"/>
          <p:cNvPicPr/>
          <p:nvPr/>
        </p:nvPicPr>
        <p:blipFill>
          <a:blip r:embed="rId1"/>
          <a:stretch/>
        </p:blipFill>
        <p:spPr>
          <a:xfrm>
            <a:off x="4800600" y="2590920"/>
            <a:ext cx="4130640" cy="3328920"/>
          </a:xfrm>
          <a:prstGeom prst="rect">
            <a:avLst/>
          </a:prstGeom>
          <a:ln w="0">
            <a:noFill/>
          </a:ln>
        </p:spPr>
      </p:pic>
      <p:sp>
        <p:nvSpPr>
          <p:cNvPr id="108" name="TextBox 4"/>
          <p:cNvSpPr/>
          <p:nvPr/>
        </p:nvSpPr>
        <p:spPr>
          <a:xfrm>
            <a:off x="304920" y="2057400"/>
            <a:ext cx="4647960" cy="49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Palatino Linotype"/>
              </a:rPr>
              <a:t>For example,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338040" indent="-16812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  <a:ea typeface="ＭＳ Ｐゴシック"/>
              </a:rPr>
              <a:t>a wave travels through the springs just like sound waves travel through the air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338040" indent="-16812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  <a:ea typeface="ＭＳ Ｐゴシック"/>
              </a:rPr>
              <a:t>the places where the springs are close together are like </a:t>
            </a:r>
            <a:r>
              <a:rPr b="1" lang="en-US" sz="3200" spc="-1" strike="noStrike">
                <a:solidFill>
                  <a:srgbClr val="000000"/>
                </a:solidFill>
                <a:latin typeface="Palatino Linotype"/>
                <a:ea typeface="ＭＳ Ｐゴシック"/>
              </a:rPr>
              <a:t>compressions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  <a:ea typeface="ＭＳ Ｐゴシック"/>
              </a:rPr>
              <a:t> in the air.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Pitch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10" name="Picture 11" descr=""/>
          <p:cNvPicPr/>
          <p:nvPr/>
        </p:nvPicPr>
        <p:blipFill>
          <a:blip r:embed="rId1"/>
          <a:stretch/>
        </p:blipFill>
        <p:spPr>
          <a:xfrm>
            <a:off x="5334120" y="380880"/>
            <a:ext cx="3200400" cy="8604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A measure of how high or low a sound is </a:t>
            </a:r>
            <a:r>
              <a:rPr b="0" lang="en-US" sz="3200" spc="-1" strike="noStrike">
                <a:solidFill>
                  <a:srgbClr val="ff0000"/>
                </a:solidFill>
                <a:latin typeface="Palatino Linotype"/>
              </a:rPr>
              <a:t>Pitch 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Palatino Linotype"/>
              </a:rPr>
              <a:t>Pitch 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depends on the frequency of a sound wave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or example,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12" name="Picture 5" descr="sound waves"/>
          <p:cNvPicPr/>
          <p:nvPr/>
        </p:nvPicPr>
        <p:blipFill>
          <a:blip r:embed="rId2"/>
          <a:stretch/>
        </p:blipFill>
        <p:spPr>
          <a:xfrm>
            <a:off x="2971800" y="4191120"/>
            <a:ext cx="3124080" cy="14810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3"/>
          <p:cNvSpPr/>
          <p:nvPr/>
        </p:nvSpPr>
        <p:spPr>
          <a:xfrm>
            <a:off x="304920" y="5029200"/>
            <a:ext cx="3124080" cy="25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Palatino Linotype"/>
              </a:rPr>
              <a:t>Low pitch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Palatino Linotype"/>
              </a:rPr>
              <a:t>Low frequency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Palatino Linotype"/>
              </a:rPr>
              <a:t>Longer wavelength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5257800" y="5105520"/>
            <a:ext cx="365760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Palatino Linotype"/>
              </a:rPr>
              <a:t>High pitch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Palatino Linotype"/>
              </a:rPr>
              <a:t>High frequency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Palatino Linotype"/>
              </a:rPr>
              <a:t>Shorter wavelength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3T01:30:30Z</dcterms:created>
  <dc:creator>John Doe</dc:creator>
  <dc:description/>
  <cp:keywords/>
  <dc:language>en-US</dc:language>
  <cp:lastModifiedBy>Denice Fogel User</cp:lastModifiedBy>
  <cp:lastPrinted>2011-10-17T15:27:44Z</cp:lastPrinted>
  <dcterms:modified xsi:type="dcterms:W3CDTF">2013-01-16T01:20:05Z</dcterms:modified>
  <cp:revision>58</cp:revision>
  <dc:subject/>
  <dc:title>Soun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31033</vt:lpwstr>
  </property>
</Properties>
</file>